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F542-AEC6-4DB9-B98E-C0CB0EA93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20" y="378540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2DBDB-40A5-4EFE-942D-3C7E4CB5C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2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46EA-180B-42C7-950F-0156F9589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420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2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420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FD37-B7B0-4432-841D-19D5035E8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5120" y="1341360"/>
            <a:ext cx="830736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8307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5120" y="270000"/>
            <a:ext cx="830736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5120" y="1341360"/>
            <a:ext cx="830736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B5F0-32FA-410E-8C88-FB3D081DA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2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20" y="378540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2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420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292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2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420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292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8307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EA6F-2401-42BA-9FDC-B4BC82F0E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0472-451B-4441-9933-D42DCB320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96B0-1941-4BBE-932A-B7CA2DB98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5120" y="270000"/>
            <a:ext cx="830736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3596-61E5-4F13-A464-432EDC59A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414D-253B-47AF-AB91-B45DDBFD6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2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BD40-0F02-4CB4-8CCF-B8087D7A4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AA6C-1C78-489F-88B9-8DADF4F49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59480"/>
            <a:ext cx="9148680" cy="3985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84360" y="6462720"/>
            <a:ext cx="1739880" cy="395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-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588000" y="6208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F Tech Jamboree #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7240" cy="76320"/>
          </a:xfrm>
          <a:prstGeom prst="rect">
            <a:avLst/>
          </a:prstGeom>
          <a:solidFill>
            <a:srgbClr val="ff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494080" y="6553080"/>
            <a:ext cx="316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Osaka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Osaka"/>
              </a:rPr>
              <a:t>2006. Renesas Technology Corp.,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66600" y="6524640"/>
            <a:ext cx="496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2201-0596-46C2-9DF7-7326A433F3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65120" y="1341360"/>
            <a:ext cx="8307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5911920"/>
            <a:ext cx="9148680" cy="946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8680" cy="1568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2"/>
          </p:nvPr>
        </p:nvSpPr>
        <p:spPr>
          <a:xfrm>
            <a:off x="498600" y="5473440"/>
            <a:ext cx="10634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960" y="6480000"/>
            <a:ext cx="316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Osaka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Osaka"/>
              </a:rPr>
              <a:t>2006. Renesas Technology Corp.,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98240" y="1798200"/>
            <a:ext cx="83293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9040" y="2636640"/>
            <a:ext cx="83296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_EMBED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4869000"/>
            <a:ext cx="83296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enesas Solutions Corporation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isao Munakata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unakata.hisao@renesas.com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73840" y="58770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Translated by ik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4437000"/>
            <a:ext cx="8136000" cy="129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ahoma"/>
              </a:rPr>
              <a:t>Frequently Heard Complaints in Embedded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Embedded” is a minority in Linux developer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Requirement from embedded developers tends to be neg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Kernel 2.6 assumes environment with rich resources -- not suited for embe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ja-JP" sz="2000" spc="-1" strike="noStrike">
                <a:solidFill>
                  <a:srgbClr val="ff0000"/>
                </a:solidFill>
                <a:latin typeface="Tahoma"/>
              </a:rPr>
              <a:t>What should we do as a trigger to have embedded profile incorporated, allowing consistency with mainline kernel development polic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05880" cy="571356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468360" y="2825640"/>
            <a:ext cx="8280360" cy="1079640"/>
            <a:chOff x="468360" y="2825640"/>
            <a:chExt cx="8280360" cy="1079640"/>
          </a:xfrm>
        </p:grpSpPr>
        <p:sp>
          <p:nvSpPr>
            <p:cNvPr id="94" name=""/>
            <p:cNvSpPr/>
            <p:nvPr/>
          </p:nvSpPr>
          <p:spPr>
            <a:xfrm>
              <a:off x="468360" y="2825640"/>
              <a:ext cx="8280360" cy="1079640"/>
            </a:xfrm>
            <a:prstGeom prst="roundRect">
              <a:avLst>
                <a:gd name="adj" fmla="val 1092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9640" y="2924280"/>
              <a:ext cx="813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There is an item “</a:t>
              </a: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</a:rPr>
                <a:t>config_embedded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” in kernel configuration 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（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Added since kernel 2.6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889440" y="5056200"/>
            <a:ext cx="4824360" cy="7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What does this config s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xpands some of kernel config 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An option for selecting options not necessarily required for embedded systems and making tun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asically, only experts are assumed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Has no influence on algorithms in 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Has no influence on parameter setting such as pag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042920" y="2781360"/>
            <a:ext cx="7201080" cy="2087640"/>
            <a:chOff x="1042920" y="2781360"/>
            <a:chExt cx="7201080" cy="2087640"/>
          </a:xfrm>
        </p:grpSpPr>
        <p:sp>
          <p:nvSpPr>
            <p:cNvPr id="100" name=""/>
            <p:cNvSpPr/>
            <p:nvPr/>
          </p:nvSpPr>
          <p:spPr>
            <a:xfrm>
              <a:off x="1042920" y="3069000"/>
              <a:ext cx="7201080" cy="1726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32000" y="3069000"/>
              <a:ext cx="2160360" cy="15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UID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M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KALLSY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HOTPLU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PRINT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03640" y="2781360"/>
              <a:ext cx="216036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LF_C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BASE_F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FUT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P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HM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16440" y="3070440"/>
              <a:ext cx="328464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C_ALIGN_FUN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C_ALIGN_LAB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C_ALIGN_LO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C_ALIGN_JUM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L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Tracing back history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ｰ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br>
              <a:rPr sz="2800"/>
            </a:b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［</a:t>
            </a: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http://lkml.org/lkml/2003/5/16/158</a:t>
            </a: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9640" y="1320840"/>
            <a:ext cx="7934400" cy="477216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900000" y="3429000"/>
            <a:ext cx="7704360" cy="2654280"/>
            <a:chOff x="900000" y="3429000"/>
            <a:chExt cx="7704360" cy="2654280"/>
          </a:xfrm>
        </p:grpSpPr>
        <p:sp>
          <p:nvSpPr>
            <p:cNvPr id="107" name=""/>
            <p:cNvSpPr/>
            <p:nvPr/>
          </p:nvSpPr>
          <p:spPr>
            <a:xfrm>
              <a:off x="900000" y="3429000"/>
              <a:ext cx="7704360" cy="2592360"/>
            </a:xfrm>
            <a:prstGeom prst="roundRect">
              <a:avLst>
                <a:gd name="adj" fmla="val 681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71640" y="3429000"/>
              <a:ext cx="75610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At kernel 2.5.68, for the opinion that FUTEX is not necessary for the embedded (footprint too large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), 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Alan Cox supported it as “Application of Linux to embedded is also important…”</a:t>
              </a: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br>
                <a:rPr sz="2400"/>
              </a:b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As Alan was promoting no-MMU support then, he took support of CPUs not capble of FUTEX into consideration(?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Tracing back history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ｰ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br>
              <a:rPr sz="2800"/>
            </a:b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［</a:t>
            </a: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http://lkml.org/lkml/2003/5/16/191</a:t>
            </a: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1189080"/>
            <a:ext cx="8353440" cy="497664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755640" y="1844640"/>
            <a:ext cx="7848720" cy="3313080"/>
            <a:chOff x="755640" y="1844640"/>
            <a:chExt cx="7848720" cy="3313080"/>
          </a:xfrm>
        </p:grpSpPr>
        <p:sp>
          <p:nvSpPr>
            <p:cNvPr id="112" name=""/>
            <p:cNvSpPr/>
            <p:nvPr/>
          </p:nvSpPr>
          <p:spPr>
            <a:xfrm>
              <a:off x="755640" y="1844640"/>
              <a:ext cx="7848720" cy="3313080"/>
            </a:xfrm>
            <a:prstGeom prst="roundRect">
              <a:avLst>
                <a:gd name="adj" fmla="val 681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6920" y="1916280"/>
              <a:ext cx="7705800" cy="32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Andrew Morton reviewed the kernel config menu</a:t>
              </a: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 and agreed to add setting to separate a part of kernel functions for embedded, when current menu structure was introduc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⇒ </a:t>
              </a: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After then, it seems that optional items have been added, responding to the requirement from the embedded… 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without deep consideration</a:t>
              </a: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.</a:t>
              </a:r>
              <a:br>
                <a:rPr sz="2400"/>
              </a:b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　　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Almost like a sink? “OK, here is the place…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ummary of current config_embed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Seems not to be actively used (nor accep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Intended to be an extended option to suppress a part of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Not used for the purpose of adding desired functions or settings for embe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urrent setting does not necessarily reflecting the requirement from embe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For example, FUTEX support is mandatory to use NPTL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Rather characterized by configuration to support no-MMU architectu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embedded” gets diversified -&gt; no more categorizable as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H7785 (&gt;1,000 MIPS), SH7751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430 MIP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, SH7619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00MIP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ulti-Core CPU, SMP CPU, Numa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How we would like to proc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5120" y="1052640"/>
            <a:ext cx="849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Raising the issue how to utilize config_embedded option already supported in kernel 2.6, can’t we actively promote to incorporate profiling for embedded into mainli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Can’t we propose several requirement profiles for embedded as current kernel tuning paramters and future exten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e want to discuss to propose a direction in coming Jamborees etc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02:36:43Z</dcterms:created>
  <dc:creator>端山貴也</dc:creator>
  <dc:description/>
  <dc:language>en-US</dc:language>
  <cp:lastModifiedBy>Takao Ikoma</cp:lastModifiedBy>
  <dcterms:modified xsi:type="dcterms:W3CDTF">2006-07-26T12:04:44Z</dcterms:modified>
  <cp:revision>24</cp:revision>
  <dc:subject/>
  <dc:title>CONFIG_EMBEDDED</dc:title>
</cp:coreProperties>
</file>